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074-6DD5-46E1-ABE8-8667BC40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43C-EAE2-44A5-BA72-6A169B7E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C30-6477-4529-8B34-CC87CB3B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E28-C159-4EA9-B76E-458E3981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15F8-4B15-4A20-8A5E-89935E32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1B9C-1F94-4F05-9747-D14DBA00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3C76-C7B4-48B7-AE8A-C596F86F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FE70-3AA3-468E-9C04-23D90DEE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DCDB-6027-4AEE-AF1C-FB020742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3BC1-5F1A-4C3F-9271-5FD219A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0F2E-FC00-46F7-8AC5-276349E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C24-BF39-438A-815F-9805544B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FA1C-2970-4023-9B50-24A97EDC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18B5-5569-4824-BAF3-3E623621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8B6E-EABB-435A-83A7-43043C3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3D3F-0703-4AA7-A4DA-3E809A42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B1D5-EB5D-430E-9513-F6321714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244-4DF1-4C0D-A404-8E29C171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4CD-64A1-4223-8F98-D9077D31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B4E-122B-4C9C-B66D-3DD7A5E3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C86-0EF7-436E-BD40-762719B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65C-6E40-4CFC-B97A-828AFA5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30E-8D4F-4583-9A88-C608AB92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A49-AEC5-4266-BFBD-A782FEC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48CB-C6EA-49B5-BE44-24A8F5E272E2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A7CE-93A5-4C56-A16B-2A9113287DD0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0666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Lesson One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A Private Conversation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NA00864_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25146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sk and answer in pair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ere did you go last week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have a good sea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as it an interesting pl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You enjoyed the play, didn’t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o was sitting behind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hear what the actors were say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couldn’t you hear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were they do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get angry with them or no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 then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y didn’t pay any attention, did the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bear i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the young man s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8560" y="609480"/>
            <a:ext cx="7178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Last week---went---thea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enjoy---pla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young man---woman---behind 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alking loud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ould not ---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 turned---and looked---angri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pay---atten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the end---couldn’t be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an’t hear---word’---sa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one---business’---man---’private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id the writer complain to the people behind hi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mplain (to sb.) about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2420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always _________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抱怨天气不好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19051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lains about the bad weat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672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complained that 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屋子里太热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22640" y="304812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om was too ho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343400"/>
            <a:ext cx="844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学生们向老师抱怨作业太多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724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students sometimes complain to the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eachers about too much homework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970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st week I went to the theatre. I had a very good seat. The play was very interesting. I did not </a:t>
            </a:r>
            <a:r>
              <a:rPr b="0" lang="en-US" sz="3200" spc="-1" strike="noStrike" u="sng">
                <a:solidFill>
                  <a:srgbClr val="bdd7e5"/>
                </a:solidFill>
                <a:uFillTx/>
                <a:latin typeface="Times New Roman"/>
                <a:hlinkClick r:id="rId2" action="ppaction://hlinksldjump"/>
              </a:rPr>
              <a:t>enjoy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it. A young man and a young woman were sitting behind me. They were talking loudly. I got very angry. I could not hear the actors. I turned round. I looked at the man and the woman angrily. They did not pay any attention. In the end, I could not bear it. I turned round again. ‘I can’t hear a word!’ I said angril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‘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t’s none of your business,’ the young man said rudely. “This is a private conversation!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50840" y="552600"/>
            <a:ext cx="504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esel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. enjo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doing)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8380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43200" y="15238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7160" y="2590920"/>
            <a:ext cx="57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he play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alking with him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him. (×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772400" y="6019920"/>
            <a:ext cx="585720" cy="433440"/>
          </a:xfrm>
          <a:custGeom>
            <a:avLst/>
            <a:gdLst>
              <a:gd name="textAreaLeft" fmla="*/ 28080 w 585720"/>
              <a:gd name="textAreaRight" fmla="*/ 557640 w 585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182" h="21600">
                <a:moveTo>
                  <a:pt x="0" y="0"/>
                </a:moveTo>
                <a:lnTo>
                  <a:pt x="29182" y="0"/>
                </a:lnTo>
                <a:lnTo>
                  <a:pt x="29182" y="21600"/>
                </a:lnTo>
                <a:lnTo>
                  <a:pt x="0" y="21600"/>
                </a:lnTo>
                <a:close/>
              </a:path>
              <a:path fill="lightenLess" w="29182" h="21600">
                <a:moveTo>
                  <a:pt x="0" y="0"/>
                </a:moveTo>
                <a:lnTo>
                  <a:pt x="29182" y="0"/>
                </a:lnTo>
                <a:lnTo>
                  <a:pt x="27782" y="1400"/>
                </a:lnTo>
                <a:lnTo>
                  <a:pt x="1400" y="1400"/>
                </a:lnTo>
                <a:close/>
              </a:path>
              <a:path fill="darken" w="29182" h="21600">
                <a:moveTo>
                  <a:pt x="29182" y="0"/>
                </a:moveTo>
                <a:lnTo>
                  <a:pt x="29182" y="21600"/>
                </a:lnTo>
                <a:lnTo>
                  <a:pt x="27782" y="20200"/>
                </a:lnTo>
                <a:lnTo>
                  <a:pt x="27782" y="1400"/>
                </a:lnTo>
                <a:close/>
              </a:path>
              <a:path fill="darkenLess" w="29182" h="21600">
                <a:moveTo>
                  <a:pt x="2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82" y="20200"/>
                </a:lnTo>
                <a:close/>
              </a:path>
              <a:path fill="lighten" w="2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82" h="21600">
                <a:moveTo>
                  <a:pt x="14591" y="3837"/>
                </a:moveTo>
                <a:lnTo>
                  <a:pt x="17167" y="6448"/>
                </a:ln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lnTo>
                  <a:pt x="21554" y="10800"/>
                </a:lnTo>
                <a:lnTo>
                  <a:pt x="19900" y="10800"/>
                </a:lnTo>
                <a:lnTo>
                  <a:pt x="19900" y="17989"/>
                </a:lnTo>
                <a:lnTo>
                  <a:pt x="9282" y="17989"/>
                </a:lnTo>
                <a:lnTo>
                  <a:pt x="9282" y="10800"/>
                </a:lnTo>
                <a:lnTo>
                  <a:pt x="7628" y="10800"/>
                </a:lnTo>
                <a:close/>
              </a:path>
              <a:path fill="darkenLess" w="29182" h="21600">
                <a:moveTo>
                  <a:pt x="17167" y="6448"/>
                </a:move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close/>
              </a:path>
              <a:path fill="darkenLess" w="29182" h="21600">
                <a:moveTo>
                  <a:pt x="13669" y="14299"/>
                </a:moveTo>
                <a:lnTo>
                  <a:pt x="15514" y="14299"/>
                </a:lnTo>
                <a:lnTo>
                  <a:pt x="15514" y="17989"/>
                </a:lnTo>
                <a:lnTo>
                  <a:pt x="19900" y="17989"/>
                </a:lnTo>
                <a:lnTo>
                  <a:pt x="19900" y="10800"/>
                </a:lnTo>
                <a:lnTo>
                  <a:pt x="9282" y="10800"/>
                </a:lnTo>
                <a:lnTo>
                  <a:pt x="9282" y="17989"/>
                </a:lnTo>
                <a:lnTo>
                  <a:pt x="13669" y="17989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523880"/>
          <a:ext cx="8686800" cy="426744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640"/>
                <a:gridCol w="1241280"/>
                <a:gridCol w="1241640"/>
                <a:gridCol w="1239840"/>
                <a:gridCol w="1241280"/>
              </a:tblGrid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How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re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ek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n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o the theatr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14600" y="533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 simple statem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79040" y="22536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ummary writ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1436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writer went to the theatre last week. He did not enjoy the play. A young man and a young woman were sitting behind him. They were talking loudly. The writer could not hear the actors. He turned round. ‘I can’t hear a word!’ he said. “This is a private conversation!’ the young man sai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55words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3:50:41Z</dcterms:created>
  <dc:creator/>
  <dc:description/>
  <dc:language>en-US</dc:language>
  <cp:lastModifiedBy>st</cp:lastModifiedBy>
  <dcterms:modified xsi:type="dcterms:W3CDTF">2002-07-10T01:35:47Z</dcterms:modified>
  <cp:revision>14</cp:revision>
  <dc:subject/>
  <dc:title>PowerPoint 演示文稿</dc:title>
</cp:coreProperties>
</file>